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49E-8102-4BC6-B370-584C632F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788-29B0-4E31-BA76-A13A1DE0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C05-8BF6-4807-8851-8C574A89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C8C-023C-418A-BCD7-B7F36572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4D85-99B0-4129-B7C4-C7883D4F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2EF-5154-46B6-84E6-0FA9FCB3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5570-39BD-4438-8D42-11727AD8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BD42-2965-4822-A917-A0BA9E1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A84A-DB5F-464F-A7C2-CEB8AD2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C385-C587-441C-92C3-BBA14B2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65B4-8569-45C0-81E8-6ADEA50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4A1-ABCF-4E23-80FD-AF3158FF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A44-4408-426B-82BA-85FC3E5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6F0C-5856-4028-A56D-E19F0C4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CE25-B648-4AA4-9180-F90A1640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3219-7963-49CB-8EFD-E96D25F5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EAFC-6545-42BF-9426-67F1A105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1BA-17FA-4FDA-BDCC-195825F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41C-AFC1-40A7-8A24-E10D2CF0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E0C-6548-415C-B68B-C0EA98B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032-FAEC-4702-BEDE-8136C6C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ADC-732D-4DD9-9A11-4CF2CABF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29B-990F-4A20-86EE-10288B8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459-B68B-410B-BE6E-A7DC359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4511-DAF5-49D1-9C60-E0C86040DBEF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E908-14CE-44E5-A345-5C52A80FB70F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Garamond"/>
              </a:rPr>
              <a:t>Flagrando uma ilusão visua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ter M. Claes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CB/U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 de Setembr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eterpc5j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6040" y="1052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73480" y="765000"/>
            <a:ext cx="863640" cy="28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73480" y="1052640"/>
            <a:ext cx="863640" cy="287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6040" y="1771560"/>
            <a:ext cx="316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73480" y="148428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0" y="1773360"/>
            <a:ext cx="863640" cy="287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604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73480" y="220500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32400" y="2492280"/>
            <a:ext cx="863640" cy="287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98400" y="30160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6040" y="3860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3480" y="3573360"/>
            <a:ext cx="86364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3860640"/>
            <a:ext cx="863640" cy="28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27320" y="479736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5120" y="4510080"/>
            <a:ext cx="86328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24400" y="4797360"/>
            <a:ext cx="863640" cy="287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33120" y="5157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49840" y="5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90880" y="830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49840" y="2205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4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502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10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49840" y="1557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2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0200" y="4508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12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27320" y="595008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5120" y="5662440"/>
            <a:ext cx="863280" cy="28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00760" y="5950080"/>
            <a:ext cx="863640" cy="287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23280" y="57340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20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43280" y="8366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(feed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9080" y="333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944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00" y="278136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cruz de fix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duração aleató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602136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0040" y="61848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OA = intervalo temp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7640" y="623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OA = 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27640" y="6237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OA = 6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28000" y="62373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SOA = 14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2909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771640" y="2492280"/>
            <a:ext cx="5400720" cy="2737080"/>
            <a:chOff x="2771640" y="2492280"/>
            <a:chExt cx="5400720" cy="2737080"/>
          </a:xfrm>
        </p:grpSpPr>
        <p:grpSp>
          <p:nvGrpSpPr>
            <p:cNvPr id="90" name=""/>
            <p:cNvGrpSpPr/>
            <p:nvPr/>
          </p:nvGrpSpPr>
          <p:grpSpPr>
            <a:xfrm>
              <a:off x="2771640" y="2492280"/>
              <a:ext cx="5400720" cy="2592360"/>
              <a:chOff x="2771640" y="2492280"/>
              <a:chExt cx="5400720" cy="2592360"/>
            </a:xfrm>
          </p:grpSpPr>
          <p:sp>
            <p:nvSpPr>
              <p:cNvPr id="91" name=""/>
              <p:cNvSpPr/>
              <p:nvPr/>
            </p:nvSpPr>
            <p:spPr>
              <a:xfrm>
                <a:off x="4716360" y="3789360"/>
                <a:ext cx="1224000" cy="115236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96000" y="2492280"/>
                <a:ext cx="720720" cy="64944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812000" y="4365720"/>
                <a:ext cx="360360" cy="35856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71640" y="3860640"/>
                <a:ext cx="1297080" cy="1224000"/>
              </a:xfrm>
              <a:prstGeom prst="ellipse">
                <a:avLst/>
              </a:prstGeom>
              <a:solidFill>
                <a:srgbClr val="ff0000">
                  <a:alpha val="3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804000" y="4292640"/>
              <a:ext cx="1081080" cy="93672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57240" y="716040"/>
            <a:ext cx="5429520" cy="54324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327240" y="1557360"/>
            <a:ext cx="1580760" cy="2945880"/>
            <a:chOff x="327240" y="1557360"/>
            <a:chExt cx="1580760" cy="2945880"/>
          </a:xfrm>
        </p:grpSpPr>
        <p:sp>
          <p:nvSpPr>
            <p:cNvPr id="184" name=""/>
            <p:cNvSpPr/>
            <p:nvPr/>
          </p:nvSpPr>
          <p:spPr>
            <a:xfrm>
              <a:off x="1042920" y="2565360"/>
              <a:ext cx="7207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240" y="1557360"/>
              <a:ext cx="120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propor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respos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corre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19280" y="42210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7800" y="3860640"/>
              <a:ext cx="11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chutand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74880" y="6093000"/>
            <a:ext cx="4647600" cy="766440"/>
            <a:chOff x="2774880" y="6093000"/>
            <a:chExt cx="4647600" cy="766440"/>
          </a:xfrm>
        </p:grpSpPr>
        <p:sp>
          <p:nvSpPr>
            <p:cNvPr id="189" name=""/>
            <p:cNvSpPr/>
            <p:nvPr/>
          </p:nvSpPr>
          <p:spPr>
            <a:xfrm flipV="1">
              <a:off x="4716360" y="6093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74880" y="6491160"/>
              <a:ext cx="46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Intervalo entre os inícios dos estímulos (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71640" y="2421000"/>
            <a:ext cx="410544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771640" y="4365720"/>
            <a:ext cx="2926080" cy="792000"/>
            <a:chOff x="2771640" y="4365720"/>
            <a:chExt cx="2926080" cy="792000"/>
          </a:xfrm>
        </p:grpSpPr>
        <p:sp>
          <p:nvSpPr>
            <p:cNvPr id="193" name=""/>
            <p:cNvSpPr/>
            <p:nvPr/>
          </p:nvSpPr>
          <p:spPr>
            <a:xfrm flipH="1">
              <a:off x="2771640" y="4724280"/>
              <a:ext cx="21600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1800" y="4365720"/>
              <a:ext cx="26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assincronia de 0 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= estímulos simultân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027760" y="5199120"/>
            <a:ext cx="266364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7760" y="4307040"/>
            <a:ext cx="266364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59040" y="5184720"/>
            <a:ext cx="266364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59040" y="4292640"/>
            <a:ext cx="266364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2319480"/>
            <a:ext cx="2664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1427040"/>
            <a:ext cx="2664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2349360"/>
            <a:ext cx="2664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1455840"/>
            <a:ext cx="26640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6840" y="1557360"/>
            <a:ext cx="505080" cy="50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2449440"/>
            <a:ext cx="504720" cy="504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9720" y="148428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BE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9720" y="234936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B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160800" y="1773360"/>
            <a:ext cx="230040" cy="1050840"/>
            <a:chOff x="3160800" y="1773360"/>
            <a:chExt cx="230040" cy="1050840"/>
          </a:xfrm>
        </p:grpSpPr>
        <p:sp>
          <p:nvSpPr>
            <p:cNvPr id="208" name=""/>
            <p:cNvSpPr/>
            <p:nvPr/>
          </p:nvSpPr>
          <p:spPr>
            <a:xfrm>
              <a:off x="3276720" y="17733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0800" y="187308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90760" y="260820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74840" y="2708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10800000">
            <a:off x="7020000" y="1512360"/>
            <a:ext cx="504720" cy="5050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6444720" y="1673280"/>
            <a:ext cx="18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6329160" y="1773360"/>
            <a:ext cx="215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459120" y="2508120"/>
            <a:ext cx="18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343560" y="2607840"/>
            <a:ext cx="216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5363640" y="2421000"/>
            <a:ext cx="505080" cy="504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00920" y="5300640"/>
            <a:ext cx="504720" cy="50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15040" y="4408560"/>
            <a:ext cx="504720" cy="504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91440" y="537372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94600" y="5486400"/>
            <a:ext cx="215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7040" y="453852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80200" y="46544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44880" y="5299200"/>
            <a:ext cx="490320" cy="50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84680" y="4408560"/>
            <a:ext cx="490320" cy="504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23800" y="5372280"/>
            <a:ext cx="18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111120" y="5484960"/>
            <a:ext cx="211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238560" y="453708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127320" y="4653000"/>
            <a:ext cx="20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0400" y="433404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BE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0400" y="51991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nl-B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8680" y="62064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cremento de lumino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77760" y="364500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cremento de lumino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5429520" cy="543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716360" y="4869000"/>
            <a:ext cx="216000" cy="215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58136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989680" y="2109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989680" y="4270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55720" y="1677960"/>
            <a:ext cx="15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L-INcr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49600" y="3838680"/>
            <a:ext cx="16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L-DEcr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2637000"/>
            <a:ext cx="403200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47640" y="4106880"/>
            <a:ext cx="43484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47640" y="2205000"/>
            <a:ext cx="2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1413000"/>
            <a:ext cx="216000" cy="215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170028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3789360"/>
            <a:ext cx="2016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29160" cy="543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V="1">
            <a:off x="3708360" y="1555560"/>
            <a:ext cx="0" cy="287964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6440" y="213192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0000"/>
                </a:solidFill>
                <a:latin typeface="Arial"/>
              </a:rPr>
              <a:t>magnitude</a:t>
            </a:r>
            <a:r>
              <a:rPr b="0" lang="nl-BE" sz="1800" spc="-1" strike="noStrike">
                <a:solidFill>
                  <a:srgbClr val="cc0000"/>
                </a:solidFill>
                <a:latin typeface="Arial"/>
              </a:rPr>
              <a:t>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0000"/>
                </a:solidFill>
                <a:latin typeface="Arial"/>
              </a:rPr>
              <a:t>ef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5227200"/>
            <a:ext cx="0" cy="576360"/>
          </a:xfrm>
          <a:prstGeom prst="line">
            <a:avLst/>
          </a:prstGeom>
          <a:ln w="255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440" y="58770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6633"/>
                </a:solidFill>
                <a:latin typeface="Arial"/>
              </a:rPr>
              <a:t>locus</a:t>
            </a:r>
            <a:r>
              <a:rPr b="0" lang="nl-BE" sz="1800" spc="-1" strike="noStrike">
                <a:solidFill>
                  <a:srgbClr val="006633"/>
                </a:solidFill>
                <a:latin typeface="Arial"/>
              </a:rPr>
              <a:t>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33"/>
                </a:solidFill>
                <a:latin typeface="Arial"/>
              </a:rPr>
              <a:t>ef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1628640"/>
            <a:ext cx="21564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1916280"/>
            <a:ext cx="215640" cy="215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4149720"/>
            <a:ext cx="21564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3860640"/>
            <a:ext cx="215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29160" cy="5432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V="1">
            <a:off x="3708360" y="1555560"/>
            <a:ext cx="0" cy="287964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6440" y="213192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0000"/>
                </a:solidFill>
                <a:latin typeface="Arial"/>
              </a:rPr>
              <a:t>magnitude</a:t>
            </a:r>
            <a:r>
              <a:rPr b="0" lang="nl-BE" sz="1800" spc="-1" strike="noStrike">
                <a:solidFill>
                  <a:srgbClr val="cc0000"/>
                </a:solidFill>
                <a:latin typeface="Arial"/>
              </a:rPr>
              <a:t>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0000"/>
                </a:solidFill>
                <a:latin typeface="Arial"/>
              </a:rPr>
              <a:t>ef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708360" y="5227200"/>
            <a:ext cx="0" cy="576360"/>
          </a:xfrm>
          <a:prstGeom prst="line">
            <a:avLst/>
          </a:prstGeom>
          <a:ln w="255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3440" y="587700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6633"/>
                </a:solidFill>
                <a:latin typeface="Arial"/>
              </a:rPr>
              <a:t>locus</a:t>
            </a:r>
            <a:r>
              <a:rPr b="0" lang="nl-BE" sz="1800" spc="-1" strike="noStrike">
                <a:solidFill>
                  <a:srgbClr val="006633"/>
                </a:solidFill>
                <a:latin typeface="Arial"/>
              </a:rPr>
              <a:t>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33"/>
                </a:solidFill>
                <a:latin typeface="Arial"/>
              </a:rPr>
              <a:t>ef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19640" y="1628640"/>
            <a:ext cx="21564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19640" y="1916280"/>
            <a:ext cx="215640" cy="215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19640" y="4149720"/>
            <a:ext cx="21564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9640" y="3860640"/>
            <a:ext cx="21564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75480" y="1020600"/>
            <a:ext cx="3189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Segundo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estímulo parece mais brilhante, mesm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quando não 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ilusão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de bril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651280" y="40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51640" y="3429000"/>
            <a:ext cx="309708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5429160" cy="5432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H="1">
            <a:off x="5724360" y="191628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61400" y="1484280"/>
            <a:ext cx="21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estímulos 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luminosidade 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744880" y="2903040"/>
            <a:ext cx="339480" cy="9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60680" y="27082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estímulos 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luminosidade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" y="260280"/>
            <a:ext cx="57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aior efeito com estimulação fr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u com estimulação for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284880" y="276120"/>
            <a:ext cx="1081080" cy="432000"/>
            <a:chOff x="6284880" y="276120"/>
            <a:chExt cx="1081080" cy="432000"/>
          </a:xfrm>
        </p:grpSpPr>
        <p:sp>
          <p:nvSpPr>
            <p:cNvPr id="276" name=""/>
            <p:cNvSpPr/>
            <p:nvPr/>
          </p:nvSpPr>
          <p:spPr>
            <a:xfrm>
              <a:off x="6284880" y="276120"/>
              <a:ext cx="1081080" cy="432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43640" y="333360"/>
              <a:ext cx="287280" cy="28728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46920" y="333360"/>
              <a:ext cx="287280" cy="28728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84880" y="766800"/>
            <a:ext cx="1081080" cy="431640"/>
            <a:chOff x="6284880" y="766800"/>
            <a:chExt cx="1081080" cy="431640"/>
          </a:xfrm>
        </p:grpSpPr>
        <p:sp>
          <p:nvSpPr>
            <p:cNvPr id="280" name=""/>
            <p:cNvSpPr/>
            <p:nvPr/>
          </p:nvSpPr>
          <p:spPr>
            <a:xfrm>
              <a:off x="6284880" y="766800"/>
              <a:ext cx="108108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3640" y="824040"/>
              <a:ext cx="287280" cy="287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46920" y="822240"/>
              <a:ext cx="287280" cy="287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V="1">
            <a:off x="3708360" y="2637000"/>
            <a:ext cx="0" cy="151272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76720" y="2062080"/>
            <a:ext cx="0" cy="251928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3443400"/>
            <a:ext cx="1081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3500280"/>
            <a:ext cx="287280" cy="287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46920" y="3498840"/>
            <a:ext cx="287280" cy="287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86680" y="2219400"/>
            <a:ext cx="1081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45080" y="2276640"/>
            <a:ext cx="287640" cy="28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2276640"/>
            <a:ext cx="287640" cy="28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27280" y="3213000"/>
            <a:ext cx="503280" cy="216000"/>
            <a:chOff x="2627280" y="3213000"/>
            <a:chExt cx="503280" cy="216000"/>
          </a:xfrm>
        </p:grpSpPr>
        <p:sp>
          <p:nvSpPr>
            <p:cNvPr id="292" name=""/>
            <p:cNvSpPr/>
            <p:nvPr/>
          </p:nvSpPr>
          <p:spPr>
            <a:xfrm>
              <a:off x="2627280" y="3213000"/>
              <a:ext cx="50328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01080" y="3241440"/>
              <a:ext cx="133560" cy="1436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35440" y="3241440"/>
              <a:ext cx="133560" cy="1436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780000" y="3213000"/>
            <a:ext cx="504720" cy="216000"/>
            <a:chOff x="3780000" y="3213000"/>
            <a:chExt cx="504720" cy="216000"/>
          </a:xfrm>
        </p:grpSpPr>
        <p:sp>
          <p:nvSpPr>
            <p:cNvPr id="296" name=""/>
            <p:cNvSpPr/>
            <p:nvPr/>
          </p:nvSpPr>
          <p:spPr>
            <a:xfrm>
              <a:off x="3780000" y="3213000"/>
              <a:ext cx="50472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53800" y="3241440"/>
              <a:ext cx="133920" cy="143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88880" y="3240720"/>
              <a:ext cx="133920" cy="143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468360" y="1341360"/>
            <a:ext cx="813744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0" y="2708280"/>
            <a:ext cx="461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E a excentricidad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769080" cy="5688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71640" y="4149720"/>
            <a:ext cx="7129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2060640"/>
            <a:ext cx="684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20320" y="479736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Redistribu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dependente da distâ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ntre 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19840" y="479736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000000"/>
                </a:solidFill>
                <a:uFillTx/>
                <a:latin typeface="Arial"/>
              </a:rPr>
              <a:t>Holof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ndente da distâ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ntre 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5400" cy="630864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6084720" y="1700280"/>
            <a:ext cx="216000" cy="503280"/>
            <a:chOff x="6084720" y="1700280"/>
            <a:chExt cx="216000" cy="503280"/>
          </a:xfrm>
        </p:grpSpPr>
        <p:sp>
          <p:nvSpPr>
            <p:cNvPr id="308" name=""/>
            <p:cNvSpPr/>
            <p:nvPr/>
          </p:nvSpPr>
          <p:spPr>
            <a:xfrm>
              <a:off x="6084720" y="1700280"/>
              <a:ext cx="216000" cy="216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84720" y="1987560"/>
              <a:ext cx="216000" cy="216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084720" y="4076640"/>
            <a:ext cx="216000" cy="503280"/>
            <a:chOff x="6084720" y="4076640"/>
            <a:chExt cx="216000" cy="503280"/>
          </a:xfrm>
        </p:grpSpPr>
        <p:sp>
          <p:nvSpPr>
            <p:cNvPr id="311" name=""/>
            <p:cNvSpPr/>
            <p:nvPr/>
          </p:nvSpPr>
          <p:spPr>
            <a:xfrm rot="10800000">
              <a:off x="6084720" y="4363920"/>
              <a:ext cx="216000" cy="216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800000">
              <a:off x="6084720" y="4076640"/>
              <a:ext cx="216000" cy="216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 flipV="1">
            <a:off x="2887560" y="1342800"/>
            <a:ext cx="0" cy="323820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873520" y="5373360"/>
            <a:ext cx="0" cy="576360"/>
          </a:xfrm>
          <a:prstGeom prst="line">
            <a:avLst/>
          </a:prstGeom>
          <a:ln w="255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437160" y="3881520"/>
            <a:ext cx="2706840" cy="2976480"/>
            <a:chOff x="6437160" y="3881520"/>
            <a:chExt cx="2706840" cy="2976480"/>
          </a:xfrm>
        </p:grpSpPr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6437160" y="4149720"/>
              <a:ext cx="270684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434720" y="38815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Ex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006633"/>
                </a:solidFill>
                <a:latin typeface="Garamond"/>
              </a:rPr>
              <a:t>Como dividímos a atencão visual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627280" y="1484280"/>
            <a:ext cx="4403880" cy="1917720"/>
          </a:xfrm>
          <a:custGeom>
            <a:avLst/>
            <a:gdLst/>
            <a:ahLst/>
            <a:rect l="l" t="t" r="r" b="b"/>
            <a:pathLst>
              <a:path w="2774" h="1208">
                <a:moveTo>
                  <a:pt x="0" y="1208"/>
                </a:moveTo>
                <a:lnTo>
                  <a:pt x="558" y="468"/>
                </a:lnTo>
                <a:lnTo>
                  <a:pt x="1108" y="0"/>
                </a:lnTo>
                <a:lnTo>
                  <a:pt x="1666" y="227"/>
                </a:lnTo>
                <a:lnTo>
                  <a:pt x="2217" y="383"/>
                </a:lnTo>
                <a:lnTo>
                  <a:pt x="2774" y="325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56000" y="1413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0"/>
                </a:moveTo>
                <a:lnTo>
                  <a:pt x="58" y="52"/>
                </a:lnTo>
                <a:lnTo>
                  <a:pt x="0" y="52"/>
                </a:lnTo>
                <a:lnTo>
                  <a:pt x="25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17920" y="5354640"/>
            <a:ext cx="440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1792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1952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1968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2128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2144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35120" y="5560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91000" y="5560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45440" y="5560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47040" y="5560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7200" y="5560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443320" y="13125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51160" y="51991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351160" y="42307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51160" y="325116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351160" y="22813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351160" y="13129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2088000" y="51336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2088000" y="41652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2088000" y="31863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2088000" y="2212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2088000" y="12448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43320" y="1157400"/>
            <a:ext cx="4752720" cy="41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08360" y="593244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O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1383840" y="317808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prop corr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51320" y="39416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51320" y="39416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17920" y="2879640"/>
            <a:ext cx="4403520" cy="2197080"/>
          </a:xfrm>
          <a:custGeom>
            <a:avLst/>
            <a:gdLst/>
            <a:ahLst/>
            <a:rect l="l" t="t" r="r" b="b"/>
            <a:pathLst>
              <a:path w="2774" h="1384">
                <a:moveTo>
                  <a:pt x="0" y="0"/>
                </a:moveTo>
                <a:lnTo>
                  <a:pt x="558" y="675"/>
                </a:lnTo>
                <a:lnTo>
                  <a:pt x="1108" y="1358"/>
                </a:lnTo>
                <a:lnTo>
                  <a:pt x="1666" y="1384"/>
                </a:lnTo>
                <a:lnTo>
                  <a:pt x="2217" y="1319"/>
                </a:lnTo>
                <a:lnTo>
                  <a:pt x="2774" y="1195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76520" y="284796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52"/>
                </a:moveTo>
                <a:lnTo>
                  <a:pt x="59" y="0"/>
                </a:lnTo>
                <a:lnTo>
                  <a:pt x="0" y="0"/>
                </a:lnTo>
                <a:lnTo>
                  <a:pt x="26" y="52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51320" y="393228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1320" y="393228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36920" y="500364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52"/>
                </a:moveTo>
                <a:lnTo>
                  <a:pt x="58" y="0"/>
                </a:lnTo>
                <a:lnTo>
                  <a:pt x="0" y="0"/>
                </a:lnTo>
                <a:lnTo>
                  <a:pt x="25" y="52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36920" y="500364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52"/>
                </a:moveTo>
                <a:lnTo>
                  <a:pt x="58" y="0"/>
                </a:lnTo>
                <a:lnTo>
                  <a:pt x="0" y="0"/>
                </a:lnTo>
                <a:lnTo>
                  <a:pt x="25" y="52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10280" y="505620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10280" y="505620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4952880"/>
            <a:ext cx="92160" cy="71640"/>
          </a:xfrm>
          <a:custGeom>
            <a:avLst/>
            <a:gdLst/>
            <a:ahLst/>
            <a:rect l="l" t="t" r="r" b="b"/>
            <a:pathLst>
              <a:path w="58" h="45">
                <a:moveTo>
                  <a:pt x="26" y="45"/>
                </a:moveTo>
                <a:lnTo>
                  <a:pt x="58" y="0"/>
                </a:lnTo>
                <a:lnTo>
                  <a:pt x="0" y="0"/>
                </a:lnTo>
                <a:lnTo>
                  <a:pt x="26" y="45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4952880"/>
            <a:ext cx="92160" cy="71640"/>
          </a:xfrm>
          <a:custGeom>
            <a:avLst/>
            <a:gdLst/>
            <a:ahLst/>
            <a:rect l="l" t="t" r="r" b="b"/>
            <a:pathLst>
              <a:path w="58" h="45">
                <a:moveTo>
                  <a:pt x="26" y="45"/>
                </a:moveTo>
                <a:lnTo>
                  <a:pt x="58" y="0"/>
                </a:lnTo>
                <a:lnTo>
                  <a:pt x="0" y="0"/>
                </a:lnTo>
                <a:lnTo>
                  <a:pt x="26" y="45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70680" y="4756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52"/>
                </a:moveTo>
                <a:lnTo>
                  <a:pt x="58" y="0"/>
                </a:lnTo>
                <a:lnTo>
                  <a:pt x="0" y="0"/>
                </a:lnTo>
                <a:lnTo>
                  <a:pt x="32" y="52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70680" y="4756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52"/>
                </a:moveTo>
                <a:lnTo>
                  <a:pt x="58" y="0"/>
                </a:lnTo>
                <a:lnTo>
                  <a:pt x="0" y="0"/>
                </a:lnTo>
                <a:lnTo>
                  <a:pt x="32" y="52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76520" y="333360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0"/>
                </a:moveTo>
                <a:lnTo>
                  <a:pt x="59" y="52"/>
                </a:lnTo>
                <a:lnTo>
                  <a:pt x="0" y="52"/>
                </a:lnTo>
                <a:lnTo>
                  <a:pt x="26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76520" y="333360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0"/>
                </a:moveTo>
                <a:lnTo>
                  <a:pt x="59" y="52"/>
                </a:lnTo>
                <a:lnTo>
                  <a:pt x="0" y="52"/>
                </a:lnTo>
                <a:lnTo>
                  <a:pt x="26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51320" y="214776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51320" y="214776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0280" y="17762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10280" y="17762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0131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6" y="0"/>
                </a:moveTo>
                <a:lnTo>
                  <a:pt x="58" y="52"/>
                </a:lnTo>
                <a:lnTo>
                  <a:pt x="0" y="52"/>
                </a:lnTo>
                <a:lnTo>
                  <a:pt x="26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70680" y="1930320"/>
            <a:ext cx="92160" cy="73080"/>
          </a:xfrm>
          <a:custGeom>
            <a:avLst/>
            <a:gdLst/>
            <a:ahLst/>
            <a:rect l="l" t="t" r="r" b="b"/>
            <a:pathLst>
              <a:path w="58" h="46">
                <a:moveTo>
                  <a:pt x="32" y="0"/>
                </a:moveTo>
                <a:lnTo>
                  <a:pt x="58" y="46"/>
                </a:lnTo>
                <a:lnTo>
                  <a:pt x="0" y="46"/>
                </a:lnTo>
                <a:lnTo>
                  <a:pt x="32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70680" y="1930320"/>
            <a:ext cx="92160" cy="73080"/>
          </a:xfrm>
          <a:custGeom>
            <a:avLst/>
            <a:gdLst/>
            <a:ahLst/>
            <a:rect l="l" t="t" r="r" b="b"/>
            <a:pathLst>
              <a:path w="58" h="46">
                <a:moveTo>
                  <a:pt x="32" y="0"/>
                </a:moveTo>
                <a:lnTo>
                  <a:pt x="58" y="46"/>
                </a:lnTo>
                <a:lnTo>
                  <a:pt x="0" y="46"/>
                </a:lnTo>
                <a:lnTo>
                  <a:pt x="32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43320" y="423072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27880" y="4611600"/>
            <a:ext cx="668160" cy="7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68920" y="4797360"/>
            <a:ext cx="26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8920" y="4983120"/>
            <a:ext cx="41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51720" y="4983120"/>
            <a:ext cx="410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34160" y="4983120"/>
            <a:ext cx="41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15160" y="4983120"/>
            <a:ext cx="20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6892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032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51720" y="5168880"/>
            <a:ext cx="936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9276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3416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75560" y="5168880"/>
            <a:ext cx="936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15160" y="5168880"/>
            <a:ext cx="1116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92760" y="4767120"/>
            <a:ext cx="20880" cy="6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2760" y="4767120"/>
            <a:ext cx="2088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2760" y="4818240"/>
            <a:ext cx="20880" cy="1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81960" y="4776840"/>
            <a:ext cx="4104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681960" y="4808520"/>
            <a:ext cx="4104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72240" y="4788000"/>
            <a:ext cx="6192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2240" y="4797360"/>
            <a:ext cx="619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4797360"/>
            <a:ext cx="619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72240" y="4788000"/>
            <a:ext cx="6192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72240" y="4767120"/>
            <a:ext cx="61920" cy="61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2760" y="4952880"/>
            <a:ext cx="2088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92760" y="4952880"/>
            <a:ext cx="2088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5003640"/>
            <a:ext cx="2088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81960" y="4962600"/>
            <a:ext cx="4104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81960" y="4994280"/>
            <a:ext cx="4104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72240" y="4973760"/>
            <a:ext cx="6192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72240" y="4983120"/>
            <a:ext cx="6192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72240" y="4983120"/>
            <a:ext cx="6192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72240" y="4973760"/>
            <a:ext cx="6192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72240" y="4952880"/>
            <a:ext cx="61920" cy="61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92760" y="5137200"/>
            <a:ext cx="20880" cy="619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92760" y="5137200"/>
            <a:ext cx="20880" cy="111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2760" y="5189400"/>
            <a:ext cx="20880" cy="97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81960" y="5148360"/>
            <a:ext cx="41040" cy="93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81960" y="5178600"/>
            <a:ext cx="41040" cy="1080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72240" y="5157720"/>
            <a:ext cx="61920" cy="111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72240" y="5168880"/>
            <a:ext cx="61920" cy="97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72240" y="5168880"/>
            <a:ext cx="61920" cy="97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72240" y="5157720"/>
            <a:ext cx="61920" cy="111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72240" y="5137200"/>
            <a:ext cx="61920" cy="61920"/>
          </a:xfrm>
          <a:prstGeom prst="ellipse">
            <a:avLst/>
          </a:prstGeom>
          <a:noFill/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71040" y="4716360"/>
            <a:ext cx="15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71040" y="4902120"/>
            <a:ext cx="15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71040" y="5086440"/>
            <a:ext cx="15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398840" y="1628640"/>
            <a:ext cx="0" cy="323856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370400" y="5444640"/>
            <a:ext cx="0" cy="576360"/>
          </a:xfrm>
          <a:prstGeom prst="line">
            <a:avLst/>
          </a:prstGeom>
          <a:ln w="255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53640" y="29448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7927920" y="4660920"/>
            <a:ext cx="21600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281720" y="466092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246160" y="458136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b812f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7237440" y="1852560"/>
            <a:ext cx="21600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7885080" y="185256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174520" y="17827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b812f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617920" y="1467000"/>
            <a:ext cx="4403520" cy="1917720"/>
          </a:xfrm>
          <a:custGeom>
            <a:avLst/>
            <a:gdLst/>
            <a:ahLst/>
            <a:rect l="l" t="t" r="r" b="b"/>
            <a:pathLst>
              <a:path w="2774" h="1208">
                <a:moveTo>
                  <a:pt x="0" y="1208"/>
                </a:moveTo>
                <a:lnTo>
                  <a:pt x="558" y="468"/>
                </a:lnTo>
                <a:lnTo>
                  <a:pt x="1108" y="0"/>
                </a:lnTo>
                <a:lnTo>
                  <a:pt x="1666" y="227"/>
                </a:lnTo>
                <a:lnTo>
                  <a:pt x="2217" y="383"/>
                </a:lnTo>
                <a:lnTo>
                  <a:pt x="2774" y="325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17920" y="5354640"/>
            <a:ext cx="440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1792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1952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1968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2128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21440" y="53546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35120" y="5560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91000" y="5560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5440" y="5560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47040" y="5560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47200" y="5560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443320" y="13125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351160" y="51991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351160" y="42307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351160" y="325116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351160" y="22813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351160" y="131292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2088000" y="51336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2088000" y="41652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2088000" y="31863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2088000" y="2212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088000" y="124488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43320" y="1157400"/>
            <a:ext cx="4752720" cy="41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08360" y="593244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O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1383840" y="317808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prop corr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17920" y="2281320"/>
            <a:ext cx="4403520" cy="2465280"/>
          </a:xfrm>
          <a:custGeom>
            <a:avLst/>
            <a:gdLst/>
            <a:ahLst/>
            <a:rect l="l" t="t" r="r" b="b"/>
            <a:pathLst>
              <a:path w="2774" h="1553">
                <a:moveTo>
                  <a:pt x="0" y="0"/>
                </a:moveTo>
                <a:lnTo>
                  <a:pt x="558" y="1462"/>
                </a:lnTo>
                <a:lnTo>
                  <a:pt x="1108" y="1553"/>
                </a:lnTo>
                <a:lnTo>
                  <a:pt x="1666" y="1169"/>
                </a:lnTo>
                <a:lnTo>
                  <a:pt x="2217" y="1104"/>
                </a:lnTo>
                <a:lnTo>
                  <a:pt x="2774" y="1293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76520" y="225108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52"/>
                </a:moveTo>
                <a:lnTo>
                  <a:pt x="59" y="0"/>
                </a:lnTo>
                <a:lnTo>
                  <a:pt x="0" y="0"/>
                </a:lnTo>
                <a:lnTo>
                  <a:pt x="26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76520" y="225108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52"/>
                </a:moveTo>
                <a:lnTo>
                  <a:pt x="59" y="0"/>
                </a:lnTo>
                <a:lnTo>
                  <a:pt x="0" y="0"/>
                </a:lnTo>
                <a:lnTo>
                  <a:pt x="26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51320" y="457056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51320" y="457056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336920" y="4726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52"/>
                </a:moveTo>
                <a:lnTo>
                  <a:pt x="58" y="0"/>
                </a:lnTo>
                <a:lnTo>
                  <a:pt x="0" y="0"/>
                </a:lnTo>
                <a:lnTo>
                  <a:pt x="25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36920" y="4726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52"/>
                </a:moveTo>
                <a:lnTo>
                  <a:pt x="58" y="0"/>
                </a:lnTo>
                <a:lnTo>
                  <a:pt x="0" y="0"/>
                </a:lnTo>
                <a:lnTo>
                  <a:pt x="25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0280" y="410688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10280" y="410688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5880" y="400356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6" y="52"/>
                </a:moveTo>
                <a:lnTo>
                  <a:pt x="58" y="0"/>
                </a:lnTo>
                <a:lnTo>
                  <a:pt x="0" y="0"/>
                </a:lnTo>
                <a:lnTo>
                  <a:pt x="26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400356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6" y="52"/>
                </a:moveTo>
                <a:lnTo>
                  <a:pt x="58" y="0"/>
                </a:lnTo>
                <a:lnTo>
                  <a:pt x="0" y="0"/>
                </a:lnTo>
                <a:lnTo>
                  <a:pt x="26" y="5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70680" y="430200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52"/>
                </a:moveTo>
                <a:lnTo>
                  <a:pt x="58" y="0"/>
                </a:lnTo>
                <a:lnTo>
                  <a:pt x="0" y="0"/>
                </a:lnTo>
                <a:lnTo>
                  <a:pt x="32" y="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17920" y="1353960"/>
            <a:ext cx="4403520" cy="1452600"/>
          </a:xfrm>
          <a:custGeom>
            <a:avLst/>
            <a:gdLst/>
            <a:ahLst/>
            <a:rect l="l" t="t" r="r" b="b"/>
            <a:pathLst>
              <a:path w="2774" h="915">
                <a:moveTo>
                  <a:pt x="0" y="915"/>
                </a:moveTo>
                <a:lnTo>
                  <a:pt x="558" y="0"/>
                </a:lnTo>
                <a:lnTo>
                  <a:pt x="1108" y="175"/>
                </a:lnTo>
                <a:lnTo>
                  <a:pt x="1666" y="487"/>
                </a:lnTo>
                <a:lnTo>
                  <a:pt x="2217" y="480"/>
                </a:lnTo>
                <a:lnTo>
                  <a:pt x="2774" y="623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76520" y="274644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26" y="0"/>
                </a:moveTo>
                <a:lnTo>
                  <a:pt x="59" y="51"/>
                </a:lnTo>
                <a:lnTo>
                  <a:pt x="0" y="51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76520" y="274644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26" y="0"/>
                </a:moveTo>
                <a:lnTo>
                  <a:pt x="59" y="51"/>
                </a:lnTo>
                <a:lnTo>
                  <a:pt x="0" y="51"/>
                </a:lnTo>
                <a:lnTo>
                  <a:pt x="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51320" y="130176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3" y="0"/>
                </a:moveTo>
                <a:lnTo>
                  <a:pt x="59" y="46"/>
                </a:lnTo>
                <a:lnTo>
                  <a:pt x="0" y="46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51320" y="1301760"/>
            <a:ext cx="93600" cy="73080"/>
          </a:xfrm>
          <a:custGeom>
            <a:avLst/>
            <a:gdLst/>
            <a:ahLst/>
            <a:rect l="l" t="t" r="r" b="b"/>
            <a:pathLst>
              <a:path w="59" h="46">
                <a:moveTo>
                  <a:pt x="33" y="0"/>
                </a:moveTo>
                <a:lnTo>
                  <a:pt x="59" y="46"/>
                </a:lnTo>
                <a:lnTo>
                  <a:pt x="0" y="46"/>
                </a:lnTo>
                <a:lnTo>
                  <a:pt x="33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36920" y="158112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25" y="0"/>
                </a:moveTo>
                <a:lnTo>
                  <a:pt x="58" y="51"/>
                </a:lnTo>
                <a:lnTo>
                  <a:pt x="0" y="51"/>
                </a:lnTo>
                <a:lnTo>
                  <a:pt x="2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6920" y="158112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25" y="0"/>
                </a:moveTo>
                <a:lnTo>
                  <a:pt x="58" y="51"/>
                </a:lnTo>
                <a:lnTo>
                  <a:pt x="0" y="51"/>
                </a:lnTo>
                <a:lnTo>
                  <a:pt x="25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10280" y="207504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10280" y="207504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2065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6" y="0"/>
                </a:moveTo>
                <a:lnTo>
                  <a:pt x="58" y="52"/>
                </a:lnTo>
                <a:lnTo>
                  <a:pt x="0" y="52"/>
                </a:lnTo>
                <a:lnTo>
                  <a:pt x="26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2065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6" y="0"/>
                </a:moveTo>
                <a:lnTo>
                  <a:pt x="58" y="52"/>
                </a:lnTo>
                <a:lnTo>
                  <a:pt x="0" y="52"/>
                </a:lnTo>
                <a:lnTo>
                  <a:pt x="2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70680" y="2281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0"/>
                </a:moveTo>
                <a:lnTo>
                  <a:pt x="58" y="52"/>
                </a:lnTo>
                <a:lnTo>
                  <a:pt x="0" y="52"/>
                </a:lnTo>
                <a:lnTo>
                  <a:pt x="3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70680" y="2281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0"/>
                </a:moveTo>
                <a:lnTo>
                  <a:pt x="58" y="52"/>
                </a:lnTo>
                <a:lnTo>
                  <a:pt x="0" y="52"/>
                </a:lnTo>
                <a:lnTo>
                  <a:pt x="32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51320" y="39416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451320" y="39416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52"/>
                </a:moveTo>
                <a:lnTo>
                  <a:pt x="59" y="0"/>
                </a:lnTo>
                <a:lnTo>
                  <a:pt x="0" y="0"/>
                </a:lnTo>
                <a:lnTo>
                  <a:pt x="33" y="5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17920" y="2879640"/>
            <a:ext cx="4403520" cy="2197080"/>
          </a:xfrm>
          <a:custGeom>
            <a:avLst/>
            <a:gdLst/>
            <a:ahLst/>
            <a:rect l="l" t="t" r="r" b="b"/>
            <a:pathLst>
              <a:path w="2774" h="1384">
                <a:moveTo>
                  <a:pt x="0" y="0"/>
                </a:moveTo>
                <a:lnTo>
                  <a:pt x="558" y="675"/>
                </a:lnTo>
                <a:lnTo>
                  <a:pt x="1108" y="1358"/>
                </a:lnTo>
                <a:lnTo>
                  <a:pt x="1666" y="1384"/>
                </a:lnTo>
                <a:lnTo>
                  <a:pt x="2217" y="1319"/>
                </a:lnTo>
                <a:lnTo>
                  <a:pt x="2774" y="1195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76520" y="284796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52"/>
                </a:moveTo>
                <a:lnTo>
                  <a:pt x="59" y="0"/>
                </a:lnTo>
                <a:lnTo>
                  <a:pt x="0" y="0"/>
                </a:lnTo>
                <a:lnTo>
                  <a:pt x="26" y="52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76520" y="2847960"/>
            <a:ext cx="93600" cy="8244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52"/>
                </a:moveTo>
                <a:lnTo>
                  <a:pt x="59" y="0"/>
                </a:lnTo>
                <a:lnTo>
                  <a:pt x="0" y="0"/>
                </a:lnTo>
                <a:lnTo>
                  <a:pt x="26" y="52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51320" y="393228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51320" y="393228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36920" y="500364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52"/>
                </a:moveTo>
                <a:lnTo>
                  <a:pt x="58" y="0"/>
                </a:lnTo>
                <a:lnTo>
                  <a:pt x="0" y="0"/>
                </a:lnTo>
                <a:lnTo>
                  <a:pt x="25" y="52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36920" y="500364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52"/>
                </a:moveTo>
                <a:lnTo>
                  <a:pt x="58" y="0"/>
                </a:lnTo>
                <a:lnTo>
                  <a:pt x="0" y="0"/>
                </a:lnTo>
                <a:lnTo>
                  <a:pt x="25" y="52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10280" y="505620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10280" y="5056200"/>
            <a:ext cx="93600" cy="81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33" y="51"/>
                </a:moveTo>
                <a:lnTo>
                  <a:pt x="59" y="0"/>
                </a:lnTo>
                <a:lnTo>
                  <a:pt x="0" y="0"/>
                </a:lnTo>
                <a:lnTo>
                  <a:pt x="33" y="51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4952880"/>
            <a:ext cx="92160" cy="71640"/>
          </a:xfrm>
          <a:custGeom>
            <a:avLst/>
            <a:gdLst/>
            <a:ahLst/>
            <a:rect l="l" t="t" r="r" b="b"/>
            <a:pathLst>
              <a:path w="58" h="45">
                <a:moveTo>
                  <a:pt x="26" y="45"/>
                </a:moveTo>
                <a:lnTo>
                  <a:pt x="58" y="0"/>
                </a:lnTo>
                <a:lnTo>
                  <a:pt x="0" y="0"/>
                </a:lnTo>
                <a:lnTo>
                  <a:pt x="26" y="45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952880"/>
            <a:ext cx="92160" cy="71640"/>
          </a:xfrm>
          <a:custGeom>
            <a:avLst/>
            <a:gdLst/>
            <a:ahLst/>
            <a:rect l="l" t="t" r="r" b="b"/>
            <a:pathLst>
              <a:path w="58" h="45">
                <a:moveTo>
                  <a:pt x="26" y="45"/>
                </a:moveTo>
                <a:lnTo>
                  <a:pt x="58" y="0"/>
                </a:lnTo>
                <a:lnTo>
                  <a:pt x="0" y="0"/>
                </a:lnTo>
                <a:lnTo>
                  <a:pt x="26" y="45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013520" y="4756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52"/>
                </a:moveTo>
                <a:lnTo>
                  <a:pt x="58" y="0"/>
                </a:lnTo>
                <a:lnTo>
                  <a:pt x="0" y="0"/>
                </a:lnTo>
                <a:lnTo>
                  <a:pt x="32" y="52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13520" y="47563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32" y="52"/>
                </a:moveTo>
                <a:lnTo>
                  <a:pt x="58" y="0"/>
                </a:lnTo>
                <a:lnTo>
                  <a:pt x="0" y="0"/>
                </a:lnTo>
                <a:lnTo>
                  <a:pt x="32" y="52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76520" y="333360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0"/>
                </a:moveTo>
                <a:lnTo>
                  <a:pt x="59" y="52"/>
                </a:lnTo>
                <a:lnTo>
                  <a:pt x="0" y="52"/>
                </a:lnTo>
                <a:lnTo>
                  <a:pt x="26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76520" y="333360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26" y="0"/>
                </a:moveTo>
                <a:lnTo>
                  <a:pt x="59" y="52"/>
                </a:lnTo>
                <a:lnTo>
                  <a:pt x="0" y="52"/>
                </a:lnTo>
                <a:lnTo>
                  <a:pt x="26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51320" y="214776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51320" y="214776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36920" y="141588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5" y="0"/>
                </a:moveTo>
                <a:lnTo>
                  <a:pt x="58" y="52"/>
                </a:lnTo>
                <a:lnTo>
                  <a:pt x="0" y="52"/>
                </a:lnTo>
                <a:lnTo>
                  <a:pt x="25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10280" y="17762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10280" y="1776240"/>
            <a:ext cx="93600" cy="82800"/>
          </a:xfrm>
          <a:custGeom>
            <a:avLst/>
            <a:gdLst/>
            <a:ahLst/>
            <a:rect l="l" t="t" r="r" b="b"/>
            <a:pathLst>
              <a:path w="59" h="52">
                <a:moveTo>
                  <a:pt x="33" y="0"/>
                </a:moveTo>
                <a:lnTo>
                  <a:pt x="59" y="52"/>
                </a:lnTo>
                <a:lnTo>
                  <a:pt x="0" y="52"/>
                </a:lnTo>
                <a:lnTo>
                  <a:pt x="33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20131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6" y="0"/>
                </a:moveTo>
                <a:lnTo>
                  <a:pt x="58" y="52"/>
                </a:lnTo>
                <a:lnTo>
                  <a:pt x="0" y="52"/>
                </a:lnTo>
                <a:lnTo>
                  <a:pt x="26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970680" y="1930320"/>
            <a:ext cx="92160" cy="73080"/>
          </a:xfrm>
          <a:custGeom>
            <a:avLst/>
            <a:gdLst/>
            <a:ahLst/>
            <a:rect l="l" t="t" r="r" b="b"/>
            <a:pathLst>
              <a:path w="58" h="46">
                <a:moveTo>
                  <a:pt x="32" y="0"/>
                </a:moveTo>
                <a:lnTo>
                  <a:pt x="58" y="46"/>
                </a:lnTo>
                <a:lnTo>
                  <a:pt x="0" y="46"/>
                </a:lnTo>
                <a:lnTo>
                  <a:pt x="32" y="0"/>
                </a:lnTo>
                <a:close/>
              </a:path>
            </a:pathLst>
          </a:cu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70680" y="1930320"/>
            <a:ext cx="92160" cy="73080"/>
          </a:xfrm>
          <a:custGeom>
            <a:avLst/>
            <a:gdLst/>
            <a:ahLst/>
            <a:rect l="l" t="t" r="r" b="b"/>
            <a:pathLst>
              <a:path w="58" h="46">
                <a:moveTo>
                  <a:pt x="32" y="0"/>
                </a:moveTo>
                <a:lnTo>
                  <a:pt x="58" y="46"/>
                </a:lnTo>
                <a:lnTo>
                  <a:pt x="0" y="46"/>
                </a:lnTo>
                <a:lnTo>
                  <a:pt x="32" y="0"/>
                </a:lnTo>
              </a:path>
            </a:pathLst>
          </a:custGeom>
          <a:noFill/>
          <a:ln w="9360">
            <a:solidFill>
              <a:srgbClr val="0064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43320" y="423072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527880" y="4611600"/>
            <a:ext cx="668160" cy="7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68920" y="4797360"/>
            <a:ext cx="26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68920" y="4983120"/>
            <a:ext cx="41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651720" y="4983120"/>
            <a:ext cx="410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34160" y="4983120"/>
            <a:ext cx="41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15160" y="4983120"/>
            <a:ext cx="20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6892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1032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51720" y="5168880"/>
            <a:ext cx="936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34160" y="5168880"/>
            <a:ext cx="972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75560" y="5168880"/>
            <a:ext cx="936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5168880"/>
            <a:ext cx="11160" cy="0"/>
          </a:xfrm>
          <a:prstGeom prst="line">
            <a:avLst/>
          </a:prstGeom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92760" y="4767120"/>
            <a:ext cx="20880" cy="6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92760" y="4767120"/>
            <a:ext cx="2088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92760" y="4818240"/>
            <a:ext cx="20880" cy="1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81960" y="4776840"/>
            <a:ext cx="4104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681960" y="4808520"/>
            <a:ext cx="4104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72240" y="4788000"/>
            <a:ext cx="6192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72240" y="4797360"/>
            <a:ext cx="619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2240" y="4797360"/>
            <a:ext cx="61920" cy="11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72240" y="4788000"/>
            <a:ext cx="6192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72240" y="4767120"/>
            <a:ext cx="61920" cy="61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92760" y="4952880"/>
            <a:ext cx="2088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692760" y="4952880"/>
            <a:ext cx="2088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92760" y="5003640"/>
            <a:ext cx="2088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681960" y="4962600"/>
            <a:ext cx="4104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681960" y="4994280"/>
            <a:ext cx="4104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72240" y="4973760"/>
            <a:ext cx="6192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4983120"/>
            <a:ext cx="6192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72240" y="4983120"/>
            <a:ext cx="6192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72240" y="4973760"/>
            <a:ext cx="6192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72240" y="4952880"/>
            <a:ext cx="61920" cy="61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92760" y="5137200"/>
            <a:ext cx="20880" cy="619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92760" y="5137200"/>
            <a:ext cx="20880" cy="111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692760" y="5189400"/>
            <a:ext cx="20880" cy="97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81960" y="5148360"/>
            <a:ext cx="41040" cy="93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681960" y="5178600"/>
            <a:ext cx="41040" cy="1080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672240" y="5157720"/>
            <a:ext cx="61920" cy="111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72240" y="5168880"/>
            <a:ext cx="61920" cy="97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72240" y="5168880"/>
            <a:ext cx="61920" cy="972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2240" y="5157720"/>
            <a:ext cx="61920" cy="11160"/>
          </a:xfrm>
          <a:prstGeom prst="rect">
            <a:avLst/>
          </a:prstGeom>
          <a:solidFill>
            <a:srgbClr val="00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72240" y="5137200"/>
            <a:ext cx="61920" cy="61920"/>
          </a:xfrm>
          <a:prstGeom prst="ellipse">
            <a:avLst/>
          </a:prstGeom>
          <a:noFill/>
          <a:ln w="9360">
            <a:solidFill>
              <a:srgbClr val="00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13880" y="4716360"/>
            <a:ext cx="15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13880" y="4902120"/>
            <a:ext cx="15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71040" y="5086440"/>
            <a:ext cx="15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492360" y="1483920"/>
            <a:ext cx="0" cy="302436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62480" y="5444640"/>
            <a:ext cx="0" cy="576360"/>
          </a:xfrm>
          <a:prstGeom prst="line">
            <a:avLst/>
          </a:prstGeom>
          <a:ln w="255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494480" y="2205000"/>
            <a:ext cx="503280" cy="216000"/>
            <a:chOff x="7494480" y="2205000"/>
            <a:chExt cx="503280" cy="216000"/>
          </a:xfrm>
        </p:grpSpPr>
        <p:sp>
          <p:nvSpPr>
            <p:cNvPr id="550" name=""/>
            <p:cNvSpPr/>
            <p:nvPr/>
          </p:nvSpPr>
          <p:spPr>
            <a:xfrm rot="16200000">
              <a:off x="7494480" y="2205000"/>
              <a:ext cx="216000" cy="216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6200000">
              <a:off x="7781760" y="2205000"/>
              <a:ext cx="216000" cy="216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524720" y="4221000"/>
            <a:ext cx="503280" cy="216000"/>
            <a:chOff x="7524720" y="4221000"/>
            <a:chExt cx="503280" cy="216000"/>
          </a:xfrm>
        </p:grpSpPr>
        <p:sp>
          <p:nvSpPr>
            <p:cNvPr id="553" name=""/>
            <p:cNvSpPr/>
            <p:nvPr/>
          </p:nvSpPr>
          <p:spPr>
            <a:xfrm rot="5400000">
              <a:off x="7812000" y="4221000"/>
              <a:ext cx="216000" cy="216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524720" y="4221000"/>
              <a:ext cx="216000" cy="216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 rot="16200000">
            <a:off x="7308720" y="1844640"/>
            <a:ext cx="21600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7956360" y="1844640"/>
            <a:ext cx="216000" cy="215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7998840" y="4653000"/>
            <a:ext cx="216000" cy="215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400000">
            <a:off x="7353360" y="465300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46160" y="21272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0000"/>
                </a:solidFill>
                <a:latin typeface="Arial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311320" y="41274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0000"/>
                </a:solidFill>
                <a:latin typeface="Arial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46160" y="17748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b812f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17440" y="45734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b812f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690000" y="28735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724040" y="1157400"/>
            <a:ext cx="5472000" cy="4973400"/>
            <a:chOff x="1724040" y="1157400"/>
            <a:chExt cx="5472000" cy="4973400"/>
          </a:xfrm>
        </p:grpSpPr>
        <p:sp>
          <p:nvSpPr>
            <p:cNvPr id="565" name=""/>
            <p:cNvSpPr/>
            <p:nvPr/>
          </p:nvSpPr>
          <p:spPr>
            <a:xfrm>
              <a:off x="2617920" y="5354640"/>
              <a:ext cx="44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17920" y="5354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19520" y="5354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19680" y="5354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21280" y="5354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1440" y="53546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71480" y="55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27720" y="55609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82160" y="556092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83760" y="556092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83920" y="556092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43320" y="131256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2351160" y="519912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351160" y="423072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351160" y="32511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2351160" y="228132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351160" y="131292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6200000">
              <a:off x="2088000" y="50994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6200000">
              <a:off x="2088000" y="41310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2088000" y="3151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2088000" y="21801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2088000" y="12117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43320" y="1157400"/>
              <a:ext cx="4752720" cy="419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45440" y="5932440"/>
              <a:ext cx="34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SO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1383840" y="315180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prop corre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920" y="2281320"/>
              <a:ext cx="4403520" cy="2465280"/>
            </a:xfrm>
            <a:custGeom>
              <a:avLst/>
              <a:gdLst/>
              <a:ahLst/>
              <a:rect l="l" t="t" r="r" b="b"/>
              <a:pathLst>
                <a:path w="2774" h="1553">
                  <a:moveTo>
                    <a:pt x="0" y="0"/>
                  </a:moveTo>
                  <a:lnTo>
                    <a:pt x="558" y="1462"/>
                  </a:lnTo>
                  <a:lnTo>
                    <a:pt x="1108" y="1553"/>
                  </a:lnTo>
                  <a:lnTo>
                    <a:pt x="1666" y="1169"/>
                  </a:lnTo>
                  <a:lnTo>
                    <a:pt x="2217" y="1104"/>
                  </a:lnTo>
                  <a:lnTo>
                    <a:pt x="2774" y="129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76520" y="225108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76520" y="225108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26" y="5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51320" y="457056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51320" y="457056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36920" y="472608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36920" y="472608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5" y="5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10280" y="410688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10280" y="410688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95880" y="400356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5880" y="400356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6" y="5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70680" y="430200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70680" y="430200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32" y="5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17920" y="1353960"/>
              <a:ext cx="4403520" cy="1452600"/>
            </a:xfrm>
            <a:custGeom>
              <a:avLst/>
              <a:gdLst/>
              <a:ahLst/>
              <a:rect l="l" t="t" r="r" b="b"/>
              <a:pathLst>
                <a:path w="2774" h="915">
                  <a:moveTo>
                    <a:pt x="0" y="915"/>
                  </a:moveTo>
                  <a:lnTo>
                    <a:pt x="558" y="0"/>
                  </a:lnTo>
                  <a:lnTo>
                    <a:pt x="1108" y="175"/>
                  </a:lnTo>
                  <a:lnTo>
                    <a:pt x="1666" y="487"/>
                  </a:lnTo>
                  <a:lnTo>
                    <a:pt x="2217" y="480"/>
                  </a:lnTo>
                  <a:lnTo>
                    <a:pt x="2774" y="62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76520" y="274644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26" y="0"/>
                  </a:moveTo>
                  <a:lnTo>
                    <a:pt x="59" y="51"/>
                  </a:lnTo>
                  <a:lnTo>
                    <a:pt x="0" y="5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76520" y="274644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26" y="0"/>
                  </a:moveTo>
                  <a:lnTo>
                    <a:pt x="59" y="51"/>
                  </a:lnTo>
                  <a:lnTo>
                    <a:pt x="0" y="51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51320" y="130176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33" y="0"/>
                  </a:moveTo>
                  <a:lnTo>
                    <a:pt x="59" y="46"/>
                  </a:lnTo>
                  <a:lnTo>
                    <a:pt x="0" y="4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51320" y="130176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33" y="0"/>
                  </a:moveTo>
                  <a:lnTo>
                    <a:pt x="59" y="46"/>
                  </a:lnTo>
                  <a:lnTo>
                    <a:pt x="0" y="46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36920" y="1581120"/>
              <a:ext cx="92160" cy="81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25" y="0"/>
                  </a:moveTo>
                  <a:lnTo>
                    <a:pt x="58" y="51"/>
                  </a:lnTo>
                  <a:lnTo>
                    <a:pt x="0" y="5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36920" y="1581120"/>
              <a:ext cx="92160" cy="81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25" y="0"/>
                  </a:moveTo>
                  <a:lnTo>
                    <a:pt x="58" y="51"/>
                  </a:lnTo>
                  <a:lnTo>
                    <a:pt x="0" y="51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10280" y="207504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10280" y="207504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20653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20653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70680" y="22813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70680" y="22813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17920" y="2313000"/>
              <a:ext cx="4403520" cy="2413080"/>
            </a:xfrm>
            <a:custGeom>
              <a:avLst/>
              <a:gdLst/>
              <a:ahLst/>
              <a:rect l="l" t="t" r="r" b="b"/>
              <a:pathLst>
                <a:path w="2774" h="1520">
                  <a:moveTo>
                    <a:pt x="0" y="0"/>
                  </a:moveTo>
                  <a:lnTo>
                    <a:pt x="558" y="1045"/>
                  </a:lnTo>
                  <a:lnTo>
                    <a:pt x="1108" y="1520"/>
                  </a:lnTo>
                  <a:lnTo>
                    <a:pt x="1666" y="1455"/>
                  </a:lnTo>
                  <a:lnTo>
                    <a:pt x="2217" y="1305"/>
                  </a:lnTo>
                  <a:lnTo>
                    <a:pt x="2774" y="129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76520" y="228132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76520" y="228132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26" y="5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51320" y="394164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51320" y="394164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36920" y="470520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36920" y="470520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5" y="5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0280" y="460224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10280" y="460224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95880" y="436392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5880" y="436392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6" y="5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70680" y="434340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970680" y="434340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32" y="5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17920" y="1528920"/>
              <a:ext cx="4403520" cy="1701720"/>
            </a:xfrm>
            <a:custGeom>
              <a:avLst/>
              <a:gdLst/>
              <a:ahLst/>
              <a:rect l="l" t="t" r="r" b="b"/>
              <a:pathLst>
                <a:path w="2774" h="1072">
                  <a:moveTo>
                    <a:pt x="0" y="1072"/>
                  </a:moveTo>
                  <a:lnTo>
                    <a:pt x="558" y="325"/>
                  </a:lnTo>
                  <a:lnTo>
                    <a:pt x="1108" y="0"/>
                  </a:lnTo>
                  <a:lnTo>
                    <a:pt x="1666" y="299"/>
                  </a:lnTo>
                  <a:lnTo>
                    <a:pt x="2217" y="383"/>
                  </a:lnTo>
                  <a:lnTo>
                    <a:pt x="2774" y="50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76520" y="317808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76520" y="317808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51320" y="199224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51320" y="199224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36920" y="1477800"/>
              <a:ext cx="92160" cy="716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25" y="0"/>
                  </a:moveTo>
                  <a:lnTo>
                    <a:pt x="58" y="45"/>
                  </a:lnTo>
                  <a:lnTo>
                    <a:pt x="0" y="4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36920" y="1477800"/>
              <a:ext cx="92160" cy="716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25" y="0"/>
                  </a:moveTo>
                  <a:lnTo>
                    <a:pt x="58" y="45"/>
                  </a:lnTo>
                  <a:lnTo>
                    <a:pt x="0" y="45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10280" y="1951200"/>
              <a:ext cx="93600" cy="7272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33" y="0"/>
                  </a:moveTo>
                  <a:lnTo>
                    <a:pt x="59" y="46"/>
                  </a:lnTo>
                  <a:lnTo>
                    <a:pt x="0" y="4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10280" y="1951200"/>
              <a:ext cx="93600" cy="7272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33" y="0"/>
                  </a:moveTo>
                  <a:lnTo>
                    <a:pt x="59" y="46"/>
                  </a:lnTo>
                  <a:lnTo>
                    <a:pt x="0" y="46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95880" y="2085840"/>
              <a:ext cx="92160" cy="716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26" y="0"/>
                  </a:moveTo>
                  <a:lnTo>
                    <a:pt x="58" y="45"/>
                  </a:lnTo>
                  <a:lnTo>
                    <a:pt x="0" y="4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5880" y="2085840"/>
              <a:ext cx="92160" cy="716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26" y="0"/>
                  </a:moveTo>
                  <a:lnTo>
                    <a:pt x="58" y="45"/>
                  </a:lnTo>
                  <a:lnTo>
                    <a:pt x="0" y="45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70680" y="227160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70680" y="227160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17920" y="2879640"/>
              <a:ext cx="4403520" cy="2197080"/>
            </a:xfrm>
            <a:custGeom>
              <a:avLst/>
              <a:gdLst/>
              <a:ahLst/>
              <a:rect l="l" t="t" r="r" b="b"/>
              <a:pathLst>
                <a:path w="2774" h="1384">
                  <a:moveTo>
                    <a:pt x="0" y="0"/>
                  </a:moveTo>
                  <a:lnTo>
                    <a:pt x="558" y="675"/>
                  </a:lnTo>
                  <a:lnTo>
                    <a:pt x="1108" y="1358"/>
                  </a:lnTo>
                  <a:lnTo>
                    <a:pt x="1666" y="1384"/>
                  </a:lnTo>
                  <a:lnTo>
                    <a:pt x="2217" y="1319"/>
                  </a:lnTo>
                  <a:lnTo>
                    <a:pt x="2774" y="1195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76520" y="284796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76520" y="2847960"/>
              <a:ext cx="9360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26" y="52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51320" y="393228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33" y="51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51320" y="393228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33" y="51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1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36920" y="500364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36920" y="500364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5" y="52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10280" y="505620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33" y="51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10280" y="505620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33" y="51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33" y="51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5880" y="4952880"/>
              <a:ext cx="92160" cy="716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26" y="45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6" y="45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5880" y="4952880"/>
              <a:ext cx="92160" cy="7164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26" y="45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6" y="45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70680" y="47563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70680" y="47563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32" y="5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32" y="52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17920" y="1467000"/>
              <a:ext cx="4403520" cy="1917720"/>
            </a:xfrm>
            <a:custGeom>
              <a:avLst/>
              <a:gdLst/>
              <a:ahLst/>
              <a:rect l="l" t="t" r="r" b="b"/>
              <a:pathLst>
                <a:path w="2774" h="1208">
                  <a:moveTo>
                    <a:pt x="0" y="1208"/>
                  </a:moveTo>
                  <a:lnTo>
                    <a:pt x="558" y="468"/>
                  </a:lnTo>
                  <a:lnTo>
                    <a:pt x="1108" y="0"/>
                  </a:lnTo>
                  <a:lnTo>
                    <a:pt x="1666" y="227"/>
                  </a:lnTo>
                  <a:lnTo>
                    <a:pt x="2217" y="383"/>
                  </a:lnTo>
                  <a:lnTo>
                    <a:pt x="2774" y="325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76520" y="333360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76520" y="333360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51320" y="214776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51320" y="214776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36920" y="141588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36920" y="1415880"/>
              <a:ext cx="9216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5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10280" y="177624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10280" y="1776240"/>
              <a:ext cx="93600" cy="8280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33" y="0"/>
                  </a:moveTo>
                  <a:lnTo>
                    <a:pt x="59" y="52"/>
                  </a:lnTo>
                  <a:lnTo>
                    <a:pt x="0" y="52"/>
                  </a:ln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95880" y="20131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5880" y="2013120"/>
              <a:ext cx="9216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6" y="0"/>
                  </a:moveTo>
                  <a:lnTo>
                    <a:pt x="58" y="52"/>
                  </a:lnTo>
                  <a:lnTo>
                    <a:pt x="0" y="52"/>
                  </a:lnTo>
                  <a:lnTo>
                    <a:pt x="26" y="0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70680" y="1930320"/>
              <a:ext cx="92160" cy="730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32" y="0"/>
                  </a:moveTo>
                  <a:lnTo>
                    <a:pt x="58" y="46"/>
                  </a:lnTo>
                  <a:lnTo>
                    <a:pt x="0" y="4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70680" y="1930320"/>
              <a:ext cx="92160" cy="730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32" y="0"/>
                  </a:moveTo>
                  <a:lnTo>
                    <a:pt x="58" y="46"/>
                  </a:lnTo>
                  <a:lnTo>
                    <a:pt x="0" y="46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00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3320" y="423072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27880" y="4611600"/>
              <a:ext cx="668160" cy="74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68920" y="4797360"/>
              <a:ext cx="266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68920" y="4983120"/>
              <a:ext cx="41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51720" y="4983120"/>
              <a:ext cx="410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34160" y="4983120"/>
              <a:ext cx="414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15160" y="4983120"/>
              <a:ext cx="20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68920" y="5168880"/>
              <a:ext cx="972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10320" y="5168880"/>
              <a:ext cx="972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51720" y="5168880"/>
              <a:ext cx="936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92760" y="5168880"/>
              <a:ext cx="972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34160" y="5168880"/>
              <a:ext cx="972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75560" y="5168880"/>
              <a:ext cx="936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15160" y="5168880"/>
              <a:ext cx="11160" cy="0"/>
            </a:xfrm>
            <a:prstGeom prst="line">
              <a:avLst/>
            </a:prstGeom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92760" y="4767120"/>
              <a:ext cx="2088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692760" y="4767120"/>
              <a:ext cx="20880" cy="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692760" y="4818240"/>
              <a:ext cx="20880" cy="1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81960" y="4776840"/>
              <a:ext cx="4104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81960" y="4808520"/>
              <a:ext cx="41040" cy="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72240" y="4788000"/>
              <a:ext cx="6192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672240" y="4797360"/>
              <a:ext cx="619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72240" y="4797360"/>
              <a:ext cx="619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72240" y="4788000"/>
              <a:ext cx="6192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72240" y="4767120"/>
              <a:ext cx="61920" cy="61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92760" y="4952880"/>
              <a:ext cx="20880" cy="61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92760" y="4952880"/>
              <a:ext cx="20880" cy="9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92760" y="5003640"/>
              <a:ext cx="20880" cy="1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81960" y="4962600"/>
              <a:ext cx="41040" cy="1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681960" y="4994280"/>
              <a:ext cx="4104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72240" y="4973760"/>
              <a:ext cx="6192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72240" y="4983120"/>
              <a:ext cx="61920" cy="1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672240" y="4983120"/>
              <a:ext cx="61920" cy="1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72240" y="4973760"/>
              <a:ext cx="61920" cy="9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72240" y="4952880"/>
              <a:ext cx="61920" cy="6192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692760" y="5137200"/>
              <a:ext cx="20880" cy="6192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692760" y="5137200"/>
              <a:ext cx="20880" cy="1116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92760" y="5189400"/>
              <a:ext cx="20880" cy="972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81960" y="5148360"/>
              <a:ext cx="41040" cy="936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81960" y="5178600"/>
              <a:ext cx="41040" cy="1080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672240" y="5157720"/>
              <a:ext cx="61920" cy="1116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72240" y="5168880"/>
              <a:ext cx="61920" cy="972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72240" y="5168880"/>
              <a:ext cx="61920" cy="972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72240" y="5157720"/>
              <a:ext cx="61920" cy="11160"/>
            </a:xfrm>
            <a:prstGeom prst="rect">
              <a:avLst/>
            </a:prstGeom>
            <a:solidFill>
              <a:srgbClr val="00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72240" y="5137200"/>
              <a:ext cx="61920" cy="61920"/>
            </a:xfrm>
            <a:prstGeom prst="ellipse">
              <a:avLst/>
            </a:prstGeom>
            <a:noFill/>
            <a:ln w="9360">
              <a:solidFill>
                <a:srgbClr val="006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05240" y="4716360"/>
              <a:ext cx="1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2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05240" y="4902120"/>
              <a:ext cx="1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4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05240" y="5086440"/>
              <a:ext cx="1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6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7453440" y="2565360"/>
            <a:ext cx="503280" cy="216000"/>
            <a:chOff x="7453440" y="2565360"/>
            <a:chExt cx="503280" cy="216000"/>
          </a:xfrm>
        </p:grpSpPr>
        <p:sp>
          <p:nvSpPr>
            <p:cNvPr id="716" name=""/>
            <p:cNvSpPr/>
            <p:nvPr/>
          </p:nvSpPr>
          <p:spPr>
            <a:xfrm rot="16200000">
              <a:off x="7453440" y="2565360"/>
              <a:ext cx="216000" cy="216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7740720" y="2565360"/>
              <a:ext cx="216000" cy="216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7451640" y="4076640"/>
            <a:ext cx="503280" cy="216000"/>
            <a:chOff x="7451640" y="4076640"/>
            <a:chExt cx="503280" cy="216000"/>
          </a:xfrm>
        </p:grpSpPr>
        <p:sp>
          <p:nvSpPr>
            <p:cNvPr id="719" name=""/>
            <p:cNvSpPr/>
            <p:nvPr/>
          </p:nvSpPr>
          <p:spPr>
            <a:xfrm rot="5400000">
              <a:off x="7738920" y="4076640"/>
              <a:ext cx="216000" cy="216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400000">
              <a:off x="7451640" y="4076640"/>
              <a:ext cx="216000" cy="216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 rot="16200000">
            <a:off x="7237440" y="1852560"/>
            <a:ext cx="21600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6200000">
            <a:off x="7885080" y="185256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rot="5400000">
            <a:off x="7927920" y="4660920"/>
            <a:ext cx="21600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7281720" y="466092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160480" y="25002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0000"/>
                </a:solidFill>
                <a:latin typeface="Arial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238240" y="39830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c0000"/>
                </a:solidFill>
                <a:latin typeface="Arial"/>
              </a:rPr>
              <a:t>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4520" y="17827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b812f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246160" y="458136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b812f"/>
                </a:solidFill>
                <a:latin typeface="Arial"/>
              </a:rPr>
              <a:t>6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356000" y="1700280"/>
            <a:ext cx="0" cy="3024000"/>
          </a:xfrm>
          <a:prstGeom prst="line">
            <a:avLst/>
          </a:prstGeom>
          <a:ln w="255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356000" y="5444640"/>
            <a:ext cx="0" cy="576360"/>
          </a:xfrm>
          <a:prstGeom prst="line">
            <a:avLst/>
          </a:prstGeom>
          <a:ln w="255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7323120" y="2225520"/>
            <a:ext cx="216000" cy="2160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7797600" y="2225520"/>
            <a:ext cx="216000" cy="215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174520" y="21337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Arial"/>
              </a:rPr>
              <a:t>4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7797600" y="4379760"/>
            <a:ext cx="216000" cy="215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6200000">
            <a:off x="7365960" y="4379760"/>
            <a:ext cx="216000" cy="216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231760" y="42926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Arial"/>
              </a:rPr>
              <a:t>4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82000" y="30160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Excentricidade / distâ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Locus 2° &lt; Locus 4° </a:t>
            </a:r>
            <a:r>
              <a:rPr b="0" lang="nl-BE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Locus 6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Magnitude 2° </a:t>
            </a:r>
            <a:r>
              <a:rPr b="0" lang="nl-BE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Magnitude 4° &lt; Magnitude 6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Resumindo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Existe uma </a:t>
            </a:r>
            <a:r>
              <a:rPr b="1" lang="nl-BE" sz="3000" spc="-1" strike="noStrike">
                <a:solidFill>
                  <a:srgbClr val="000000"/>
                </a:solidFill>
                <a:latin typeface="Arial"/>
              </a:rPr>
              <a:t>ilusão de aumento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na luminosidade do segundo estímul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Esta tendência é maior com </a:t>
            </a:r>
            <a:r>
              <a:rPr b="1" lang="nl-BE" sz="3000" spc="-1" strike="noStrike">
                <a:solidFill>
                  <a:srgbClr val="000000"/>
                </a:solidFill>
                <a:latin typeface="Arial"/>
              </a:rPr>
              <a:t>estimulação baix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O efeito é </a:t>
            </a:r>
            <a:r>
              <a:rPr b="1" lang="nl-BE" sz="3000" spc="-1" strike="noStrike">
                <a:solidFill>
                  <a:srgbClr val="000000"/>
                </a:solidFill>
                <a:latin typeface="Arial"/>
              </a:rPr>
              <a:t>modulado no tempo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, e é maior por volta de 100 ms separação temp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Com maior excentricidade/distância, o efeito é mais tarde e mais for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Qual mecanismo? Os suspeitos..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Efeitos lineares (lei de </a:t>
            </a:r>
            <a:r>
              <a:rPr b="1" i="1" lang="nl-BE" sz="3000" spc="-1" strike="noStrike">
                <a:solidFill>
                  <a:srgbClr val="000000"/>
                </a:solidFill>
                <a:latin typeface="Arial"/>
              </a:rPr>
              <a:t>Bloch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58160" y="2491920"/>
            <a:ext cx="4346640" cy="2457720"/>
            <a:chOff x="758160" y="2491920"/>
            <a:chExt cx="4346640" cy="2457720"/>
          </a:xfrm>
        </p:grpSpPr>
        <p:sp>
          <p:nvSpPr>
            <p:cNvPr id="745" name=""/>
            <p:cNvSpPr/>
            <p:nvPr/>
          </p:nvSpPr>
          <p:spPr>
            <a:xfrm flipV="1">
              <a:off x="1619280" y="2491920"/>
              <a:ext cx="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76360" y="443700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79640" y="3225960"/>
              <a:ext cx="2016000" cy="850680"/>
            </a:xfrm>
            <a:custGeom>
              <a:avLst/>
              <a:gdLst/>
              <a:ahLst/>
              <a:rect l="l" t="t" r="r" b="b"/>
              <a:pathLst>
                <a:path w="1270" h="536">
                  <a:moveTo>
                    <a:pt x="0" y="536"/>
                  </a:moveTo>
                  <a:cubicBezTo>
                    <a:pt x="189" y="351"/>
                    <a:pt x="378" y="166"/>
                    <a:pt x="590" y="83"/>
                  </a:cubicBezTo>
                  <a:cubicBezTo>
                    <a:pt x="802" y="0"/>
                    <a:pt x="1157" y="45"/>
                    <a:pt x="1270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160" y="270828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Bril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13800" y="458136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11280" y="620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e efeitos não-lineares (efeito </a:t>
            </a:r>
            <a:r>
              <a:rPr b="1" i="1" lang="nl-BE" sz="3000" spc="-1" strike="noStrike">
                <a:solidFill>
                  <a:srgbClr val="000000"/>
                </a:solidFill>
                <a:latin typeface="Arial"/>
              </a:rPr>
              <a:t>Broca-Sulzer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temporal response function, transiente na representação neural, adaptação, </a:t>
            </a: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6120000" cy="384156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64000" y="2060640"/>
            <a:ext cx="324036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18520" y="5734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26880" y="2349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ri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200" spc="-1" strike="noStrike">
                <a:solidFill>
                  <a:srgbClr val="006633"/>
                </a:solidFill>
                <a:latin typeface="Garamond"/>
              </a:rPr>
              <a:t>ou atenção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7640" y="692280"/>
            <a:ext cx="3394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Obrigado</a:t>
            </a:r>
            <a:br>
              <a:rPr sz="3800"/>
            </a:br>
            <a:br>
              <a:rPr sz="3800"/>
            </a:br>
            <a:r>
              <a:rPr b="0" lang="nl-BE" sz="3800" spc="-1" strike="noStrike">
                <a:solidFill>
                  <a:srgbClr val="006633"/>
                </a:solidFill>
                <a:latin typeface="Garamond"/>
              </a:rPr>
              <a:t>Voluntári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peterpc5j@hotmail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320 em aterrissag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77880"/>
            <a:ext cx="9144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Um experimento psicofís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37000"/>
            <a:ext cx="504720" cy="504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637000"/>
            <a:ext cx="505080" cy="504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16360" y="3357720"/>
            <a:ext cx="2881080" cy="1734840"/>
            <a:chOff x="2916360" y="3357720"/>
            <a:chExt cx="2881080" cy="1734840"/>
          </a:xfrm>
        </p:grpSpPr>
        <p:sp>
          <p:nvSpPr>
            <p:cNvPr id="103" name=""/>
            <p:cNvSpPr/>
            <p:nvPr/>
          </p:nvSpPr>
          <p:spPr>
            <a:xfrm flipH="1" flipV="1">
              <a:off x="2916360" y="3357720"/>
              <a:ext cx="72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149800" y="3357720"/>
              <a:ext cx="6476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79960" y="4724280"/>
              <a:ext cx="227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efa: Compar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148360" y="314172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95960" y="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olofote múlti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7240" y="3213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Amp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960" y="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Holofote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31600" y="328464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edistribu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9960" y="277920"/>
            <a:ext cx="7804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506760" y="2133720"/>
            <a:ext cx="2303640" cy="1600200"/>
            <a:chOff x="3506760" y="2133720"/>
            <a:chExt cx="2303640" cy="1600200"/>
          </a:xfrm>
        </p:grpSpPr>
        <p:sp>
          <p:nvSpPr>
            <p:cNvPr id="117" name=""/>
            <p:cNvSpPr/>
            <p:nvPr/>
          </p:nvSpPr>
          <p:spPr>
            <a:xfrm>
              <a:off x="3506760" y="2133720"/>
              <a:ext cx="230364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34520" y="2819520"/>
              <a:ext cx="23004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90680" y="2818080"/>
              <a:ext cx="230400" cy="228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505320" y="404640"/>
            <a:ext cx="2313360" cy="1486080"/>
            <a:chOff x="3505320" y="404640"/>
            <a:chExt cx="2313360" cy="1486080"/>
          </a:xfrm>
        </p:grpSpPr>
        <p:grpSp>
          <p:nvGrpSpPr>
            <p:cNvPr id="121" name=""/>
            <p:cNvGrpSpPr/>
            <p:nvPr/>
          </p:nvGrpSpPr>
          <p:grpSpPr>
            <a:xfrm>
              <a:off x="3505320" y="404640"/>
              <a:ext cx="2313360" cy="1486080"/>
              <a:chOff x="3505320" y="404640"/>
              <a:chExt cx="2313360" cy="1486080"/>
            </a:xfrm>
          </p:grpSpPr>
          <p:sp>
            <p:nvSpPr>
              <p:cNvPr id="122" name=""/>
              <p:cNvSpPr/>
              <p:nvPr/>
            </p:nvSpPr>
            <p:spPr>
              <a:xfrm>
                <a:off x="3505320" y="404640"/>
                <a:ext cx="2313360" cy="148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49760" y="1080720"/>
                <a:ext cx="36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H="1">
              <a:off x="4592880" y="1136160"/>
              <a:ext cx="1216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1120" y="4059360"/>
            <a:ext cx="799920" cy="215640"/>
            <a:chOff x="4191120" y="4059360"/>
            <a:chExt cx="799920" cy="215640"/>
          </a:xfrm>
        </p:grpSpPr>
        <p:sp>
          <p:nvSpPr>
            <p:cNvPr id="126" name=""/>
            <p:cNvSpPr/>
            <p:nvPr/>
          </p:nvSpPr>
          <p:spPr>
            <a:xfrm>
              <a:off x="4191120" y="4059360"/>
              <a:ext cx="36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51280" y="4059360"/>
              <a:ext cx="23976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84720" y="4292640"/>
            <a:ext cx="71424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Sound"/>
          <p:cNvSpPr/>
          <p:nvPr/>
        </p:nvSpPr>
        <p:spPr>
          <a:xfrm>
            <a:off x="3635280" y="5300640"/>
            <a:ext cx="343080" cy="447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6560" y="5373000"/>
            <a:ext cx="14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b812f"/>
                </a:solidFill>
                <a:latin typeface="Arial"/>
              </a:rPr>
              <a:t>↑</a:t>
            </a:r>
            <a:r>
              <a:rPr b="1" lang="pt-BR" sz="1800" spc="-1" strike="noStrike">
                <a:solidFill>
                  <a:srgbClr val="3b812f"/>
                </a:solidFill>
                <a:latin typeface="Arial"/>
              </a:rPr>
              <a:t>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↓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40320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d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54000" y="857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ruz de fix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4520" y="2637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6520" y="429264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re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mouse/joys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6160" y="5373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07:59Z</dcterms:created>
  <dc:creator>peter</dc:creator>
  <dc:description/>
  <dc:language>en-US</dc:language>
  <cp:lastModifiedBy>Peter Claessens</cp:lastModifiedBy>
  <dcterms:modified xsi:type="dcterms:W3CDTF">2007-09-20T14:01:41Z</dcterms:modified>
  <cp:revision>18</cp:revision>
  <dc:subject/>
  <dc:title>Flagrando uma ilusão de brilho</dc:title>
</cp:coreProperties>
</file>